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18D-0505-4184-B14F-DA8B9949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2CC-F642-44BE-96E4-46D01E97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53B-E45F-4BEE-BEAC-DD24EC1E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4DD-D266-45E8-8C9E-76F9947F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009-3037-4593-B124-3EB91600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393-EDE7-4E01-B22F-8E50A502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B5E-290C-4B83-83AC-60719C97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14F-5247-4472-99AD-E39BCC4F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E80-5780-4A6D-A3CF-89849C01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BA9-AEB4-4AFF-8E8E-F89CAAE4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E0C-E04C-449C-BDF3-DB41FEC3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00A-971D-49F5-8F96-1117703D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B210-A511-4CB4-B818-AEE8AE84C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 day in the lif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1412640"/>
            <a:ext cx="640080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Kayleigh Boy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 Friends 1</a:t>
            </a:r>
            <a:r>
              <a:rPr b="0" lang="en-US" sz="4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358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my friend Soph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111640" cy="38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717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Teachers And Friend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869000"/>
            <a:ext cx="3683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my tutor miss scirriano and she is really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84720" y="126828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new friend I’ve made at Gordano School called Lily-r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527640" cy="3311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84720" y="2060640"/>
            <a:ext cx="4608360" cy="446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8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605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fo about Gorda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re are 1,700 students at Gordan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re are 120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re are loads of different lessons (Drama, Art, I.T.C,  English, maths, science, design technology, languages, humanities, music and P.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get loads of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10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 On my 1</a:t>
            </a:r>
            <a:r>
              <a:rPr b="0" lang="en-US" sz="4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5373720"/>
            <a:ext cx="82184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picture  of me and me and my friends on my first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128000" cy="410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763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572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us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89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houses at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hannon- This house is blue with 253 pupils i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Lundy- This house is purple and has 251 pupils i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Fitzroy-This house is orange and has 231 pupils i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Cromarty-This house is green and has 224 pupils i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rtland-This house is yellow and has 210 pupils i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iscay-this house is red and has 224 pupils i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5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8:40:44Z</dcterms:created>
  <dc:creator>8kayleighboyce</dc:creator>
  <dc:description/>
  <dc:language>en-US</dc:language>
  <cp:lastModifiedBy>8kayleighboyce</cp:lastModifiedBy>
  <dcterms:modified xsi:type="dcterms:W3CDTF">2008-11-05T09:47:46Z</dcterms:modified>
  <cp:revision>6</cp:revision>
  <dc:subject/>
  <dc:title>A day in the life!</dc:title>
</cp:coreProperties>
</file>